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9A3-C4F8-472F-B938-1AECCD0D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610-F5B9-4AC5-9492-C8D8DCBE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38E94-B316-440B-AE1B-2A0E03CC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AECF7-9B41-4514-B584-4BA9D036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0F57C-9DFF-4A0F-89CD-AFD1C500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C3B42-F111-4F09-BF7B-7427A9E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C28D8-2A84-4B0F-83C3-81B73FA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4E96B-77C4-4C92-B933-2469ED1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2C086-64D9-4206-B636-F36C44A2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9362A-0922-416E-87F9-B0DDCF5D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7D6D3-1BB1-42E6-89C3-94BD9D2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2FD78-71FA-4E49-9612-665C3D47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077-B37D-474D-8C07-F428696A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960B-315D-4D0C-AD23-68A62DDF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435F3-23DC-40A4-A0AE-FE48A83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DAE4F-3D26-47A3-9A35-6087D069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3E871-2942-4654-96C4-AF15C50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EC9AF-3816-4F3B-8C69-E57475F9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EF9E1-D277-43C5-B002-544306A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F55D0-205D-4146-BF54-C66B8C9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EFEBC-8757-46D7-B98B-302B9FCB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E597-6247-4186-B91D-49C6AD4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27E5C-EA6A-4A3D-BEC1-E59D4CFA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D3C-C6AD-4671-94A2-DF895A0E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9CB59-0253-4558-8601-73C1A1AD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D6C93-4BA1-4E1E-AD40-ED51629A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A55E1-7D98-46E3-8CB3-4996D2A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5AA6A-65B0-438C-802F-B6676FC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3FBA0-E980-4C0E-8559-BAAE2215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13B5-92B3-48F8-A9E3-39944E27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BE479-D8BA-451B-90CA-74F26B4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EDE30-E453-4FD0-8098-1CAE263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9CAD3-0AAB-41C4-A83A-88AE7D5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5063A-652E-456C-85A1-F5B31AE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9325-9DA3-41A2-926F-92252166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488D6-69FD-4B6C-9BF3-1043693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DA79-F7B1-4702-BF9B-637BB76A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0F77F-365D-433E-A810-D247D0A7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0FE80-4CF9-46A6-88AE-A6818262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E2059-1901-4837-AFA6-BA7DF1E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7B964-84ED-459A-B3FF-8F109B1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C1A45-096E-4FFB-9AFB-739431E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2BE81-82FC-42C2-A010-085E08E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EA60-BF06-4C9E-A281-51464213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C339-FB00-4545-A0AE-F739C5C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8D66-A627-462B-9FD7-0F9F08E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79181-C20E-4D54-A7BF-63F4DE7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77ED-DFA4-411A-8E62-DD4A7CF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F6107-155F-49F3-A2CC-5D8A4B17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2871-5FD8-4960-B6C5-02414F98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DD7F1-90F2-4300-8334-F8118DBB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FA9F-FF77-4C00-8044-ED48357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408-185B-46ED-BE86-EB0B7CE9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2D97-0FAE-4D69-9366-69E62AE5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5EE0-0070-41DC-854D-5D25B454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752F-8BCD-4C34-AE7A-16EE9B4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432-5A92-48D9-83F2-B0EAC42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79BA-C8A8-40B5-A8AB-FA3033C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44B4-E2F1-4DBF-9698-FCF8FB8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5A34-3AC0-4545-90AD-4F732A8F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320-AF9E-4859-95F9-BE23A220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591-994D-407B-9297-BE2FD210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B32C-BC11-4C4F-B943-70BE86C7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7235-9FC5-4D8A-B7DE-C73796CC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B3A8-0EC5-4981-9CBD-CDC18B9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B824-0D41-49E4-98EF-5F07A41D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B79F-32C5-482B-A57B-BF2B5B6C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EDA-C20D-44CD-92A0-D7882EE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15CB-E4B5-40FA-86DE-A6793E10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EF69-9421-4378-89A5-0E46247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45AF-F1B9-4FBF-82C9-B421AD6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665E-D9F3-4EC8-8538-B6EC93C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6816-ADC0-4EFA-9763-2E31B61A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691D-8ABB-48C5-B00C-1E5A3EA4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1435-B0C2-4C8D-A82C-C69FD27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216C-451C-4D62-B4C6-FE104BCB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B442-76EF-4F64-A7B2-7721703D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A681-3C77-4B4A-849A-D798F74C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7E5-F54B-42F7-9FEA-CD5BFCD6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B961-F210-4191-B603-DAA96BEA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C32E-0888-42A6-90ED-1CE1D8F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2AEA-3735-4A5F-A654-BDA8A51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D91A-AA1F-4F7F-83FD-6399DC5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F504-E094-4EAA-A296-02E226B9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8726-1564-41D6-A289-9F46D1D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7DCE-7E9A-4AEE-AA4E-7536EB1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55A0-EF87-4CE9-BB9B-6F4A59A3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233C-E79A-4B86-8FCB-ED66EDF1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09522-1048-4397-8719-EAAE2F4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596-FABF-4379-BF37-DE58FE5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A2F85-AC14-4178-993A-BFC443D1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3162-6BD5-4B49-9CED-4722F78D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7896-443C-48E6-952E-1640D542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0EEC-8053-42FE-BCC9-CFDB70C5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20A7-AE8A-49B1-9112-A3BA4A7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41C5-A58E-4714-85C1-5C18AF1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8103-9E2C-49F0-BD6C-CBE8885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4C70-B8CD-48CA-9576-1150E2C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FE88-D1FF-47B5-936B-ACFE29D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3E6F-2E35-4050-960A-D60ADC91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C44-5250-4BAA-B185-C014DEB1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ED89-EEB6-4407-84CD-324B91D6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D9C2-5DB7-4091-A15C-B75D597C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31E0B-32A8-4248-8838-4517B63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BD6A-4407-483C-8AAA-38FC1EA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45DD-B652-42C7-8468-33E7616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A1F83-E2C9-4122-81AF-47811C94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841AE-2E1B-49EE-B528-58667FD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8EB8-6164-4A0D-9060-70524AE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4B7C-AB0E-4AE4-B8DD-B2FF855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02E5E-1BE3-4D07-A9E2-49889C8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468-31CD-4E8B-9E51-89EFC91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FC31-1301-423C-A2ED-D97F2F58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41C67-1237-4B25-9F85-50E84BF7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6EF93-5C88-4EA1-B3DB-46F5D77D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92D1-8B1D-45E0-B803-B8DF8AC0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68BD-0ECF-4383-AA2F-613358DE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660A-8910-478B-BA9F-2CD1A246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BC457-F14C-4204-BF72-5B9978E2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7B47-D4DC-43C9-BF2C-8657C7A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16402-5444-4FDF-B362-47AAEEE8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5997-8052-4C7C-9909-458B5E6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374-38B7-4BB0-9237-80D5DA6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F38F-EB53-4BA2-9AC5-714A2B8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FD65-6756-47DC-A67E-CA64EA0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7D9C-226F-43EC-A8A8-A289AF9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E8CB-7892-4583-957D-C529A6FF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64957-2B84-4C6B-9796-9EB862FA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B9290-A791-4AFC-BE8C-ADE9400C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EFE5-835E-415F-9CAD-6C61E48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D30B1-5E96-43ED-B77B-D0BA2DE7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9380E-8F5F-417B-B446-6D628E31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5F056-AE84-465F-9E8B-7F66E21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4F1-4AEA-4281-B10B-05110DDB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1B02-A144-4D3F-B0CF-019C7A8A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E144-986F-40A8-A729-B24C58C8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34456-5093-421F-A92A-C704ADA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304C-8B48-4C60-A81E-2459EFA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7859C-27A4-46E5-8B4F-EC063B4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B928-633A-4E8F-8377-A94160B1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0FF0-9E48-42E2-BA46-7E012BBB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D7EEA-5F22-44E9-B729-D7B6B2F3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7C5C4-B8FA-4D19-B1D3-DD671C1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7E98C-949E-4B09-9A94-CB02E1C8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16E9-EAF2-4DC6-9638-460A99B588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9E4-A094-4B77-8D9A-A223AE596A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C32-D989-44D0-AC96-2425A7EC27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213-A831-401D-A3C7-050E17F115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D4E-7D99-4734-A2E8-31D96B0982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C2B-F4B2-4DC7-830C-7301C62FB5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C693-B4CE-459E-9C51-76DA2F06FB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0EC2-89DB-47B8-B09C-8480971A75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AE3D-262E-4E0C-B8EA-862670C111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720A-5E77-4692-8D52-9A715D9494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069E-5471-46FC-B432-915DBA5226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218-6892-4121-8CE9-6AFB48FE74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5 Vždy bližšie pri t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bližšie pri te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, Pane chce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bez teba na svete žiť nemôžem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íž, príval staro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ôľu a úzk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vojej blí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sť nevlád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ako Jákob,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me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činiem únavou premože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sa zrieť rebrík t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pája s nebom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ojich túžob s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ždy sa pomi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, spánku čas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a dovedi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eta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veď ma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údolia bole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ojej blízk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ečný j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02:37Z</dcterms:modified>
  <cp:revision>22</cp:revision>
  <dc:subject/>
  <dc:title>Je veľký náš Pán, on slávy je Kráľ Nech do všetkých strán  spev vrúcnych znie chvál.</dc:title>
</cp:coreProperties>
</file>